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5C1-4175-438D-A6FD-B25AB07C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FA3-0FAA-4A1C-9E07-6AF0A50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ACD-719C-462E-BABC-81597B37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FF0-7548-48DF-BAB7-352567E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A3C6-E4F6-4349-8DBA-C06F7901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D243-F854-4C36-B2D7-C9D4723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882-18DA-4D7E-9044-BCDBDCB7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31E5-8E3C-4C27-AFBD-6CF7046C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2833-D4A6-4C31-A84E-C5B712C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616-3589-4795-BB56-0694C96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B290-49CF-46D0-B2E5-4321750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ACF-D30D-4DFD-8D4B-30C0EB67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16C7-5172-4E4E-879D-E7805B7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64B-DD3D-47FA-B577-FF6E8BE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C5B-B9EC-45DB-8961-BB074BB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36A-25E1-474D-B1D5-BB078EAA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4D1-60FB-4066-8DFA-D7FF5718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DF1-23B0-491A-82F1-269A915C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D0C-760D-432D-B77E-575E44E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B92-D0D6-4144-8F81-1B13A1C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A1A-5EA9-4F97-ABE7-01D2045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A83-1E59-4A79-A1EE-8F82C1B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102-C25D-474E-AADC-2213AD7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C62-C5B5-4BEB-B414-02AE88F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7EB8-626C-4823-ACB2-E1265633BF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7D5-876F-4E1D-B10D-6C9F8754B5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FC’s propos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Yu 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yung 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ong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uan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 bowl of rice contains 15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15g, a person eats about 3 bowls per day which makes it 3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g per person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MS Gothic"/>
              </a:rPr>
              <a:t>300 ±30g x200±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ita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past few weeks KFC had being aiming to design, and price, a water and grain storage facility for a village that has fifty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torage facility must be able to contain a two week supply of water and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alls and roof of the facility will be made out of metal sheet that costs $14 per m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acility must be placed on a 20cm thick concrete floor. The concrete costs $640 per m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must make every effort to keep the cost as low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many people’s in a famil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d shown that the average population of a family is around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(two adults and two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50x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±1=200±50 people are included in this 5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1752480"/>
            <a:ext cx="5676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ater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What we found out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 our research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need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r (35 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 (8 liters) do they hav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(.5 l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(3li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at is it the best solution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Why is it the best solution?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How we found the solution (justification)?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86280" y="914400"/>
            <a:ext cx="4914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rain stora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3:35:03Z</dcterms:created>
  <dc:creator>Yuan ke</dc:creator>
  <dc:description/>
  <dc:language>en-US</dc:language>
  <cp:lastModifiedBy>sony</cp:lastModifiedBy>
  <dcterms:modified xsi:type="dcterms:W3CDTF">2008-11-29T16:29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